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9E33-6FF6-4A74-8413-58C4B1D7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CA09-1CCA-4835-B2C6-9F68A659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CBB18-9594-4AE1-9B2E-480DB297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77609-7840-4EF4-A653-F096992B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72EE0-EF3D-4DE3-AC33-B6EBF178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3A155-7DE8-424A-A4D6-82FD0AC0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E1838-A918-4F0E-ADD0-CC6128BB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D4F0F-2AB8-44B1-B473-B49239CA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1605D-4A9D-4600-9B0A-A7D0B1F5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95196-C77F-491B-AE09-20DB5F54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D6100-F9EA-472A-892B-DFC4CEC4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A979C-AC1A-4D16-A711-48248989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D841-6785-4D6D-98CB-391B1AE5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94E87-6044-44C2-B6CB-6860079B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D4075-441F-45CF-BA60-158CF88B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AD29E-8E28-4693-B8AE-03D9413C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6A90A-46C2-49CB-9768-A28E4421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394C1-CD8C-4EC9-A3BC-F5FD01A8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F9B8A-5F66-4494-B2EE-C37DED33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83740-FD88-46B8-87EC-B32BB308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1335C-4BF3-4F33-A5EC-940230B4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19D9C-9DAC-4D57-A959-59907D15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B1740-C5E9-4F7C-B378-F7E847D4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590D-0C7C-4211-9CD7-A32868E8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C34F6-2AF6-4882-8150-81EBCD02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4AA7-BE67-4232-86C2-608A93E6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8DEA-2390-4B73-9A23-352286A4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232B-0950-497B-91EF-8B7E539E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77E6-8E8D-4FB3-BF5E-F273B5F8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D4A8-6E7A-472E-964B-2B8B1811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18D5-0011-4EF5-BF27-99254D02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5341-CA2D-4C11-8E3E-EAB7B702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181-B7F9-4ECB-BE16-82A758F5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2546-3CAC-489F-8D41-64096751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EDC0-1EA0-4479-A59D-5790105F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FAA0-E972-45FC-A102-66657A53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778A-F50B-4739-B202-F90AC270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4C91-509C-4284-AD4E-0297EA9A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BA5E3-7EF5-4684-95EA-05200A5D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57B0D-378A-4D39-A31D-515F7D7C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A2669-549F-4B9D-8798-0A56EA67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B648D-DE67-4A9E-AAA0-AB91D556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7173B-9596-4DA8-8F4E-0CA38BC4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579F-6730-46F9-8D54-F00DB514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A2715-F9E9-47A1-AC8C-991FA018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63E77-A8C6-4B5B-8899-6CC0F297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6EDCD-DFE5-4CB3-9B7B-5F02085B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840FA-9EAC-41D6-A794-1BEC9EF2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5BCBE-1374-43EC-8B07-711884D9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05B43-1C0F-4C69-94F8-D469B416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FB623-BE48-425B-90ED-57FC0BE4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0D96D-9FB4-4698-81B0-466B607A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6F57E-A243-43B9-8518-5CF38D00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5D0CD-9229-4F0A-8806-47BC357E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CCF3-974C-45C6-BBDD-28EE853D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4DAED-A2A1-459E-B2D9-9261A52E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595B4-111D-4D19-8367-E95918E5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4BC81-B1DE-4026-97A0-8AB22F0B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DA23C-FF73-413B-9855-B586FBA3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AAF47-EA71-47D7-BE21-7280C467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A3CDD-2822-4CDA-9629-C86EB99B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39CF2-325E-4ADB-8AB7-5199ED21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8C33E-B2DB-4D81-83B2-90B8D685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3F1AC-0B9E-44CF-83E9-CAB5650C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B9A46-37BF-491C-B33B-A622FF31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7A6-6F3C-4D8B-8D1A-F96EA961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36EEF-F76C-4EE8-A9E2-0AF15035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687CA-D352-4654-965D-EF10360E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C008A-6FD6-4F28-93B4-EC7293E6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D4A28-DE04-4EBF-8F20-7FAF7E03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C9B69-8139-498E-A1D1-184C54A5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87BD0-13C8-4817-A486-F366DFCD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BF276-BDCE-41AE-A3EC-DD8E76B4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528D6-6679-42F2-8C86-32E1FB77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E6AF5-5A8A-4E70-96DB-9A164CD8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730D9-20B6-4193-972E-479C34AB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4D25-793C-4F3C-BF74-6171AEFA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F3D15-3385-460D-944E-4B8BC70B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034F0-4E04-4E15-9473-B938B44A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ED84D-5DB0-43ED-AF98-F09A6110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1E738-F160-47FB-8332-22F17F33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92023-EA7F-431B-A378-1420BF35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F091B-CA70-42FF-9E77-6DE2F785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7AAAE-1BC0-462F-9271-9B8C9D0B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FA0EF-6E9F-4670-9EEA-77973CCB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DEF30-4BFE-42C5-803B-303CEFB6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751CE-46DC-4AAE-9AA7-0F099A18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0F4-CE71-4DD6-A577-3013A9E6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557DF-9A90-4946-BD26-BA5479DC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086A1-1B0B-4D41-B7A5-585CDA8D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A80F7-A1C9-4C61-928A-496FE8E7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F5E3C-C710-4177-8A7D-FD3151BD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20AA5-E1F0-4B40-AEFA-63CC1D56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877C9-898C-460C-B409-8888C0E6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98FCF-C860-4EA3-8740-251EC436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FF54D-C667-4BBD-91E7-4B38CDCE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3E82D-C592-4B94-80F2-700C5FFC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980C3-0C90-48B6-9089-25446FEF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10A-C810-4485-8EFE-CC43C8E4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6AC6C-F80D-4ABE-8F41-4E754721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1FD1E-0D8E-4EE7-B2E2-4D22078F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60819-9EEB-473D-A090-253A9468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00CA0-986B-47C6-A8C6-A36FB502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10363-9C16-436F-973A-695C6481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52F21-D2DA-4EFF-8CC5-DC5433F9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13B7A-B106-4B23-A6E0-E31E9A9A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6A063-EB98-4CC6-A234-2FFAD3BA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AE5CF-F12B-4097-861C-A5385926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A3F5C-33F8-4643-8581-323BFEF2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880-BEFC-4D83-AAC1-F6969449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65960-7C96-4B94-89E3-E3E66810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5B48E-84E3-4646-A922-2780321B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2C631-AC1F-4B45-B50F-3883C812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3D2E7-2133-4597-ABE6-6448D1B1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6F801-C323-4776-8385-36E12229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70613-FC32-48B6-A89F-549E4AB2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48605-4A75-477A-88EB-601D888D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5CECE-C8D9-4871-8EB3-87A6F5A0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5BA88-8DCD-4ED1-B037-2986ACC6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2F0D9-0B74-4D28-B8D2-9E51413E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3BF7-09BD-4DB9-AE4D-BBDB9F4C10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FD79-476F-4D35-BFE6-0657FFF4F14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56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60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66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70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DC5C-563C-4C16-852B-D7F9C078A9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9654-794A-4155-AE15-04724E0131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EBD6-5481-464B-A6FE-1BC08D89C8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8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0B51-D59A-4092-804C-AA76120C60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2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0783-E427-4A28-A646-4CCE3C7C73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74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8FE3-70E3-4983-9111-0170BFABAE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19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1FD9-BC86-4EAA-878B-95A38A57C1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7E71-B14C-4050-A345-59395469221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72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8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99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02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3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05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3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0" y="123840"/>
            <a:ext cx="9144000" cy="66708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ORDER OF OPERATION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SSO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EXAMPLE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u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2286000" y="3048120"/>
          <a:ext cx="6705720" cy="2387520"/>
        </p:xfrm>
        <a:graphic>
          <a:graphicData uri="http://schemas.openxmlformats.org/drawingml/2006/table">
            <a:tbl>
              <a:tblPr/>
              <a:tblGrid>
                <a:gridCol w="1905120"/>
                <a:gridCol w="480060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x 2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5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x 2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mplify Exponent ( Rule 2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25 x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mplify Exponent ( Rule 2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ultiplication ( Rule 3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E 289 – (3 X 5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289 – (3 X 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914400" y="2895480"/>
          <a:ext cx="7772400" cy="3234960"/>
        </p:xfrm>
        <a:graphic>
          <a:graphicData uri="http://schemas.openxmlformats.org/drawingml/2006/table">
            <a:tbl>
              <a:tblPr/>
              <a:tblGrid>
                <a:gridCol w="2666880"/>
                <a:gridCol w="5105520"/>
              </a:tblGrid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 – (3 x 5)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289 – (3 X 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914400" y="2895480"/>
          <a:ext cx="7772400" cy="3234960"/>
        </p:xfrm>
        <a:graphic>
          <a:graphicData uri="http://schemas.openxmlformats.org/drawingml/2006/table">
            <a:tbl>
              <a:tblPr/>
              <a:tblGrid>
                <a:gridCol w="2666880"/>
                <a:gridCol w="5105520"/>
              </a:tblGrid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 – (3 x 5)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89 – (15)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Parentheses ( Rule 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289 – (3 X 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914400" y="2895480"/>
          <a:ext cx="7772400" cy="3234960"/>
        </p:xfrm>
        <a:graphic>
          <a:graphicData uri="http://schemas.openxmlformats.org/drawingml/2006/table">
            <a:tbl>
              <a:tblPr/>
              <a:tblGrid>
                <a:gridCol w="2666880"/>
                <a:gridCol w="5105520"/>
              </a:tblGrid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 – (3 x 5)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89 – (15)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Parentheses ( Rule 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89 - 2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Exponents ( Rule 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289 – (3 X 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914400" y="2895480"/>
          <a:ext cx="7772400" cy="3234960"/>
        </p:xfrm>
        <a:graphic>
          <a:graphicData uri="http://schemas.openxmlformats.org/drawingml/2006/table">
            <a:tbl>
              <a:tblPr/>
              <a:tblGrid>
                <a:gridCol w="2666880"/>
                <a:gridCol w="5105520"/>
              </a:tblGrid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 – (3 x 5)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89 – (15)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Parentheses ( Rule 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89 - 2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Exponents ( Rule 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ction ( Rule 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E 8 + (2 x 5) x 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÷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639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8 + (2 x 5) x 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838080" y="2743200"/>
          <a:ext cx="7696440" cy="3886200"/>
        </p:xfrm>
        <a:graphic>
          <a:graphicData uri="http://schemas.openxmlformats.org/drawingml/2006/table">
            <a:tbl>
              <a:tblPr/>
              <a:tblGrid>
                <a:gridCol w="3353040"/>
                <a:gridCol w="43434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+ (2 x 5) x 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Down Ques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639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8 + (2 x 5) x 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838080" y="2743200"/>
          <a:ext cx="7696440" cy="3714840"/>
        </p:xfrm>
        <a:graphic>
          <a:graphicData uri="http://schemas.openxmlformats.org/drawingml/2006/table">
            <a:tbl>
              <a:tblPr/>
              <a:tblGrid>
                <a:gridCol w="3200400"/>
                <a:gridCol w="449604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+ (2 x 5) x 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Down Ques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</a:t>
                      </a:r>
                      <a:r>
                        <a:rPr b="1" lang="en-US" sz="2800" spc="-1" strike="noStrike">
                          <a:solidFill>
                            <a:srgbClr val="6666cc"/>
                          </a:solidFill>
                          <a:latin typeface="Arial"/>
                        </a:rPr>
                        <a:t>(10)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 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Parentheses(Rule 1 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639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8 + (2 x 5) x 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838080" y="2743200"/>
          <a:ext cx="7696440" cy="3714840"/>
        </p:xfrm>
        <a:graphic>
          <a:graphicData uri="http://schemas.openxmlformats.org/drawingml/2006/table">
            <a:tbl>
              <a:tblPr/>
              <a:tblGrid>
                <a:gridCol w="3200400"/>
                <a:gridCol w="449604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+ (2 x 5) x 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Down Ques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(10) x 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Parentheses(Rule 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(10) x </a:t>
                      </a:r>
                      <a:r>
                        <a:rPr b="1" lang="en-US" sz="2800" spc="-1" strike="noStrike">
                          <a:solidFill>
                            <a:srgbClr val="6666cc"/>
                          </a:solidFill>
                          <a:latin typeface="Arial"/>
                        </a:rPr>
                        <a:t>8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Exponents ( Rule 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les for BEDM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le 1: 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Simplify all operations inside parenthe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le 2: 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Simplify all exponents, working from left to right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le 3: 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Perform all multiplications and divisions, working from left to r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le 4: 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Perform all additions and subtractions, working from left to r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639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8 + (2 x 5) x 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838080" y="2743200"/>
          <a:ext cx="7696440" cy="4111560"/>
        </p:xfrm>
        <a:graphic>
          <a:graphicData uri="http://schemas.openxmlformats.org/drawingml/2006/table">
            <a:tbl>
              <a:tblPr/>
              <a:tblGrid>
                <a:gridCol w="3200400"/>
                <a:gridCol w="4496040"/>
              </a:tblGrid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+ (2 x 5) x 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Down Ques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(10) x 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Parentheses(Rule 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(10) x 81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Exponents ( Rule 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</a:t>
                      </a:r>
                      <a:r>
                        <a:rPr b="1" lang="en-US" sz="2800" spc="-1" strike="noStrike">
                          <a:solidFill>
                            <a:srgbClr val="6666cc"/>
                          </a:solidFill>
                          <a:latin typeface="Arial"/>
                        </a:rPr>
                        <a:t>81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all Multiplications and Divisions, working from left to right ( Rule 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639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8 + (2 x 5) x 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838080" y="2743200"/>
          <a:ext cx="7696440" cy="3714840"/>
        </p:xfrm>
        <a:graphic>
          <a:graphicData uri="http://schemas.openxmlformats.org/drawingml/2006/table">
            <a:tbl>
              <a:tblPr/>
              <a:tblGrid>
                <a:gridCol w="3200400"/>
                <a:gridCol w="449604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+ (2 x 5) x 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Down Ques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(10) x 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Parentheses(Rule 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(10) x 81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Exponents ( Rule 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810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all Multiplications and Divisions, working from left to right ( Rule 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639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8 + (2 x 5) x 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838080" y="2743200"/>
          <a:ext cx="7696440" cy="3714840"/>
        </p:xfrm>
        <a:graphic>
          <a:graphicData uri="http://schemas.openxmlformats.org/drawingml/2006/table">
            <a:tbl>
              <a:tblPr/>
              <a:tblGrid>
                <a:gridCol w="3200400"/>
                <a:gridCol w="449604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+ (2 x 5) x 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Down Ques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(10) x 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Parentheses(Rule 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(10) x 81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Exponents ( Rule 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810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all Multiplications and Divisions, working from left to right ( Rule 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 ( Rule 4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TRY THE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27 – 256 ÷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) 9 x (5 + 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14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) 7 + 3 x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÷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)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990720" y="2590920"/>
          <a:ext cx="7391160" cy="2392200"/>
        </p:xfrm>
        <a:graphic>
          <a:graphicData uri="http://schemas.openxmlformats.org/drawingml/2006/table">
            <a:tbl>
              <a:tblPr/>
              <a:tblGrid>
                <a:gridCol w="2514600"/>
                <a:gridCol w="4876560"/>
              </a:tblGrid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4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9 x 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plify Exponents (Rule 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5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ultiplication ( Rule 3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) 27 – 256 ÷ 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609480" y="2590920"/>
          <a:ext cx="8077320" cy="2895480"/>
        </p:xfrm>
        <a:graphic>
          <a:graphicData uri="http://schemas.openxmlformats.org/drawingml/2006/table">
            <a:tbl>
              <a:tblPr/>
              <a:tblGrid>
                <a:gridCol w="2819520"/>
                <a:gridCol w="525780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 – 256 ÷ 4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27 – 256÷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plify Exponents (Rule 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27 –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vision ( Rule 3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= 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btraction ( Rule 4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) 9 x (5 + 3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– 14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4920" y="2590920"/>
          <a:ext cx="8381880" cy="3619440"/>
        </p:xfrm>
        <a:graphic>
          <a:graphicData uri="http://schemas.openxmlformats.org/drawingml/2006/table">
            <a:tbl>
              <a:tblPr/>
              <a:tblGrid>
                <a:gridCol w="3200400"/>
                <a:gridCol w="518148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 x (5 + 3)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– 1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9 x (8)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- 1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plify Parentheses ( Rule 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9 x 64 - 1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plify Exponents ( Rule 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576 - 1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ultiplication ( Rule 3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=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btraction ( Rule 4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) 7 + 3 x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÷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152280" y="2590920"/>
          <a:ext cx="8534520" cy="3619440"/>
        </p:xfrm>
        <a:graphic>
          <a:graphicData uri="http://schemas.openxmlformats.org/drawingml/2006/table">
            <a:tbl>
              <a:tblPr/>
              <a:tblGrid>
                <a:gridCol w="3259080"/>
                <a:gridCol w="527544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 + 3 x 2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÷ 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7 + 3 x 16 ÷ 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plify Exponents ( Rule 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7 + 48 ÷ 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form all Multiplications and Divisions, working from left to right ( Rule 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7 + 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= 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dition ( Rule 4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EDM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 – Bra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 – Ex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 – Division from left to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 – Multiply from left to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 – Add from left to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 – Subtract from left to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 this arithmetic expr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 + 36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÷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LU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609480" y="4191120"/>
          <a:ext cx="8305920" cy="2238120"/>
        </p:xfrm>
        <a:graphic>
          <a:graphicData uri="http://schemas.openxmlformats.org/drawingml/2006/table">
            <a:tbl>
              <a:tblPr/>
              <a:tblGrid>
                <a:gridCol w="2210040"/>
                <a:gridCol w="2523960"/>
                <a:gridCol w="3571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+ 36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÷ 3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18 + 36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÷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plify all exponents ( Rule 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 this arithmetic expr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 + 36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÷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LU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380880" y="4191120"/>
          <a:ext cx="8534520" cy="2238120"/>
        </p:xfrm>
        <a:graphic>
          <a:graphicData uri="http://schemas.openxmlformats.org/drawingml/2006/table">
            <a:tbl>
              <a:tblPr/>
              <a:tblGrid>
                <a:gridCol w="2210040"/>
                <a:gridCol w="2654280"/>
                <a:gridCol w="3670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+ 36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÷ 3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18 + 36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÷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plify all exponents ( Rule 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+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6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18 +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vision ( Rule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 this arithmetic expr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 + 36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÷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LU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380880" y="4191120"/>
          <a:ext cx="8534520" cy="2238120"/>
        </p:xfrm>
        <a:graphic>
          <a:graphicData uri="http://schemas.openxmlformats.org/drawingml/2006/table">
            <a:tbl>
              <a:tblPr/>
              <a:tblGrid>
                <a:gridCol w="2210040"/>
                <a:gridCol w="2654280"/>
                <a:gridCol w="3670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+ 36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÷ 3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18 + 36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÷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plify all exponents ( Rule 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+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6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18 +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vision ( Rule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+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ition ( Rule 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EXAMPLE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u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2286000" y="3048120"/>
          <a:ext cx="6705720" cy="2387520"/>
        </p:xfrm>
        <a:graphic>
          <a:graphicData uri="http://schemas.openxmlformats.org/drawingml/2006/table">
            <a:tbl>
              <a:tblPr/>
              <a:tblGrid>
                <a:gridCol w="1905120"/>
                <a:gridCol w="480060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x 2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EXAMPLE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u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2286000" y="3048120"/>
          <a:ext cx="6705720" cy="2387520"/>
        </p:xfrm>
        <a:graphic>
          <a:graphicData uri="http://schemas.openxmlformats.org/drawingml/2006/table">
            <a:tbl>
              <a:tblPr/>
              <a:tblGrid>
                <a:gridCol w="1905120"/>
                <a:gridCol w="480060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5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x 2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25 x 2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mplify Exponent ( Rule 2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EXAMPLE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u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286000" y="3048120"/>
          <a:ext cx="6705720" cy="2387520"/>
        </p:xfrm>
        <a:graphic>
          <a:graphicData uri="http://schemas.openxmlformats.org/drawingml/2006/table">
            <a:tbl>
              <a:tblPr/>
              <a:tblGrid>
                <a:gridCol w="1905120"/>
                <a:gridCol w="480060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x 2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5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x 2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mplify Exponent ( Rule 2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25 x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mplify Exponent ( Rule 2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6:52:51Z</dcterms:created>
  <dc:creator>nbdoe</dc:creator>
  <dc:description/>
  <dc:language>en-US</dc:language>
  <cp:lastModifiedBy>user User</cp:lastModifiedBy>
  <dcterms:modified xsi:type="dcterms:W3CDTF">2007-03-26T18:50:54Z</dcterms:modified>
  <cp:revision>5</cp:revision>
  <dc:subject/>
  <dc:title>ORDER OF OPERATIONS</dc:title>
</cp:coreProperties>
</file>